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678-3F45-4215-A3DF-04594A96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F3E-FBC3-4B39-828F-4B4A9EB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004-89FA-4C73-B59C-6C3F06EE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8DE-B6A4-423A-881E-DBE14885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7574-B55D-4625-8326-6318A978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102-1F9A-4544-8857-B4804CB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92F2-B284-45B0-A3CF-B22690C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1177-1AD8-4BDA-9240-5DFBE7C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8DAE-4012-4A6B-813D-74CB723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58B1-2DBE-4689-8CE2-D52D918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546-8DCD-462F-A4BC-5C2B750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1C0-A9E2-43EC-BA19-694F388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A67-C9B1-4F02-BE30-8D33FFC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C78-1AD2-4477-BFFC-FDC9762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A1D1-ED45-4E3E-8BE0-BFA611D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3CD-E3B4-4A90-ACFB-9721A33D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508C-7321-48DE-89FF-3760EAEA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2E2-E577-4208-A6FA-E5C14B1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1C2-775F-4DF3-9B7E-D1DC7C79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6A3-759E-42AA-A31F-4ED415B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FC7-D564-4FC4-BA3D-7180083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DE0-8518-4D3A-97D0-E67C239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864-3DE2-4C27-89A5-567AAEC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6CF-3EE9-4E3D-8858-5325FC0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EC9-5540-4F68-8B58-9DC98FFC0FA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38B-5E79-4BC7-8578-DBD02A5BEAA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at are we looking for in prose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int of 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x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nd thou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etaphorical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Regis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mode? - Written/Spok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manner? - The relationship between writer and reader: formal or informal? Personal or impersonal? Authorial intention (to characterise, describe a place or time, create an atmosphere or convey a messag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field? - The lexis will suggest something about the nature of the subject matt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Point of 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it a first person narrative, giving a direct insight into a character’s min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it a third person narrative, providing an omniscient view of events and characters? Is it informing or evaluat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narrator reliable or unreliable? - Can readers rely on the version of events provided by the narrator?or should they mistrust the narrato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examples of interior monologue or stream of consciousness? - are the characters’ thoughts ordered or random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Lex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words simple or complicated? Formal or colloquial? Modern or archaic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examples of subject specific words or specific lexical set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 nouns concrete or abstrac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naming of characters important? Are any names omitted on purpos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 any words have significant connotation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at function do the modifiers have? What effects do they creat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Speech and though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direct speech or thought to let the characters speak for themselve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indirect speech or thought to interpret or comment on the things that characters say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grammar standard or non-standard? Formal or informal? Modern or archaic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occasions when the tense changes from the simple past? What effect does this hav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sentence structure varied? - Simple? Complex? What effect do the changes have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Metaphorical langu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images to give the fictional world a concrete visual quality? To which senses does the description appeal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metaphors or symbols? What effect do these hav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2:07:43Z</dcterms:created>
  <dc:creator>www.englishteaching.co.uk (CC)</dc:creator>
  <dc:description/>
  <dc:language>en-US</dc:language>
  <cp:lastModifiedBy>Amanda</cp:lastModifiedBy>
  <dcterms:modified xsi:type="dcterms:W3CDTF">2010-01-02T17:12:43Z</dcterms:modified>
  <cp:revision>4</cp:revision>
  <dc:subject/>
  <dc:title>A Level Prose: An Introduction to Analysis</dc:title>
</cp:coreProperties>
</file>